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5E2-AA4E-4037-AD75-601033B0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853-9383-488A-BE6A-FB1C75AD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D97-72C6-4F80-99E5-9AF0CDF6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080-D85C-48AB-80C6-9B848704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F8F-35AB-46E3-8BD6-0979073F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7BD-09C8-4DEF-A933-466BF2B7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2E5-6E7F-41F1-B8E6-AFC185AB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289-C749-4A4E-953D-2F9B2623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6C0-5F88-4C65-8041-531ECC7A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AE6-D3B3-4E8A-B1E3-654F276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6F3-ADBA-45E8-A1E2-560A162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AF4-6F45-40F1-836B-FB8AE02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8522-0A21-427B-B798-8BF38C31F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1. Lausearvu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alusek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õiste (proposition). Arutlus jaotatakse lauseteks, millest igaüks on kas tõene või väär. Lausete omavahelised seosed määravad kogu arutluse kehtiv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kseeritud lausesümbolite tähestik (signatuur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sioon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metatakse suvalist funk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0,1}. Lausearvutuse valemite väärtustus on aga funktsioon, mis annab kõigile valemitele väärtuse sõltuvalt konkreetsest interpretatsioon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äärtuseks interpretatsioon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1, siis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tõe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) ning seda tähistataks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pidisel juhul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vää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Tõeväärtustabel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väärtustabel sisaldab lausearvutuse valemi kõikvõimalikke väärtustusi. Kui valemi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utujat, siis tabel koosneb 2</a:t>
            </a:r>
            <a:r>
              <a:rPr b="0" i="1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st, et võimaldada arvutada valemi väärtust igasuguse muutujate väärtuste kombinatsiooni jaoks. Pikemate valemite puhul on mõistlik arvutada esmalt väiksemate alamvalemite tõeväärtuse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Lausearvutuse valemite liigit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kehtiv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em, kui see on tõene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väär valem, kui see on väär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, kui see on tõene mingi väärtustuse korr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, kui see mingi väärtustuse puhul ei ole tõ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te hulg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hta öeldakse, et see tingib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istu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sellest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järeldub 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järelduvus tühjast valemite hulgast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 mis loogiline tõesus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ekvivalentse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ähist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ekvivalents on sama, m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i loogiline tõesu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ne ekvivalents on ekvivalentsiseos: ta on refleksiiv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ümmeetr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g transitiivne 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ma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m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kui ma olen tark, siis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kui ma saan hea hinde, siis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– ma olen kas tark või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– ma olen tark j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ete asendamise omad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sieerimise omad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Normaalkuju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ausesü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teisendamine konjunktiivsele või disjunktiivsele normaalkujule (annab esialgse valemiga loogiliselt ekvivalentse valemi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id ära, kasutad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ed sisse ning kahekordsed eitused ära, kasutade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id või konjunktsioonid sisse, kasutade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dud kuju võib veel optimeerid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ut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sioon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listatud kolmanda seadu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 seadus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ute seadus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moodustatakse uusi lauseid sidesõnade abil, lausearvutuses kasutatakse vastavalt lausearvutuse teht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, m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… si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ja ainult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jasti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on tihti ka seoseid, mis ei ole lausearvutuse tehted (näiteks sidesõnad sest, enne kui, jne. …) Tähelepanu tuleb pöörata ka sellele, et kui… siis… ei vasta alati lausearvutuse teht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Lausearvutuse sünta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estik – lausesümbolid (proposition symb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muutuja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 tehe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avahemärg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valemid on lausete hulk, mis defineeritakse induktiivse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õik lausesümbolid on valemid (atomaarvalem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ogilised konstandi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 T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(tõene)  j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(väär) on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alem, siis on k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va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alemid, siis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 ja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 on samuti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uid lausearvutuse valemeid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emas alamlausena esinev va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l tehetel on fikseeritud prioriteedid, tänu millele on võimalik sulgude hulka valemites vähendada (kahanevas järjekorra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ge vähendada võimaldab ka assotsiatiivsusreegel, mis kehtib konj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siooni ja disjunktsiooni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Lausearvutuse semantik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reeglid ütlevad, kuid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ite tõeväärtuste põhjal määrata kogu valemi tõeväärtus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usearvutuse valem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ga lausemuutuja väärtuseks on kas tõene (T) või väär (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ää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mõlemad on tões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vähemalt üks valemit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 võ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väärtused on sam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49:50Z</dcterms:created>
  <dc:creator>Tiina Zingel</dc:creator>
  <dc:description/>
  <dc:language>en-US</dc:language>
  <cp:lastModifiedBy>Tiina Zingel</cp:lastModifiedBy>
  <dcterms:modified xsi:type="dcterms:W3CDTF">2006-03-31T12:21:54Z</dcterms:modified>
  <cp:revision>3</cp:revision>
  <dc:subject/>
  <dc:title>Rakendusliku loogika süvakursus</dc:title>
</cp:coreProperties>
</file>